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5092-3273-49A4-AD8C-F3F2FEA5C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2E4-643D-4FD2-A900-106A910BB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1BA1-1248-46AD-855D-143FDD6EB7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FE2D-896B-4A25-B260-95C7592EE2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4706-BE39-4E64-8FB6-60BAA8652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D52F-4230-4A9B-BB03-EEAC47C65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65FA-891D-4158-B4B5-B4CFB0FD4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C76B-D1D5-42F3-A585-1F0A48EB8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FC08-8AC8-48B4-AFC8-39C8EFA6A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F03B-D644-49B0-B166-5D178988F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5A18-8D39-4AC4-9DF1-E5833F983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304D-C098-4FE9-9D93-38DEC245E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DF43-4423-4DF7-950C-AE333E2AC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6B16-0D1C-4E55-ADB8-CB4D2CF02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6302-FB39-45BB-A18C-679AB5FFE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B724-58A3-482C-92BE-AD57D42C1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0E9C-D7F3-41DE-9007-D39236D9A36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7FD-D466-4F3D-B612-4CB3686E585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Atribuiri şi recunoştiinţ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5e647"/>
                </a:solidFill>
                <a:latin typeface="Verdana"/>
              </a:rPr>
              <a:t>Numiţi sursele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 şi afişati semnul de copyright 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66ccff"/>
                </a:solidFill>
                <a:latin typeface="Verdana"/>
              </a:rPr>
              <a:t>Numirea surselor:</a:t>
            </a:r>
            <a:r>
              <a:rPr b="1" i="1" lang="ro-RO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- daţi o descriere bibliografică completă cu informaţiile care sunt disponibile (incluzând autorul, titlul, tipografia, locul şi data tipăriri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66ccff"/>
                </a:solidFill>
                <a:latin typeface="Verdana"/>
              </a:rPr>
              <a:t>Afişati semnul de copyright:</a:t>
            </a:r>
            <a:r>
              <a:rPr b="1" i="1" lang="ro-RO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-sub poze adăugaţi informaţii despre deţinătorul copyrightului (anul primei apariţii, numele deţinătorului dreptului de auto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Exemplu: © 2001 Company/Person’s Na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575B-5100-4C44-87EC-AE1DAB3F68F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720" y="40608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Folosirea ulterioară dincolo de folosirea legal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Dacă există posibilitatea ca un proiect să fie răspândit (de exemplu publicat pe internet):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obţineţi permisiunea când îl creaţi, decât să asteptaţ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Exemple de scrisori pentru permisiune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unt disponibile pe Curriculum Resource CD, Folder-ul Resource, Copyright Resour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crisori pentru solicitarea permisiunii către deţinătorii dreptului de au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crisori pentru solicitarea permisiunii părinţilor de a publica lucrările elevilor sau a pozelor copiilor l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AEC3-2287-4DD3-9ED5-CB8D719BAE0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5760" y="8380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Reţineti că acestea sunt sfaturi, nu legi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Cu toate acestea, cu cât te îndepărtezi mai mult de aceste sfaturi, cu atât mai mult ai şansa să fii în afara “folosirii legale”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8A37-9529-47AA-9ABD-32532FC12DF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Dacă nu ai permisiunea deţinătorului dreptului de autor, atunci este ilegal să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procuri o licenţă pentru un singur utilizator şi să o foloseşti pe mai multe calculatoare sau un serv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downloadezi softuri cu drept de autor de pe Inter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împrumuţi şcolii tale softul pe care l-ai procurat pentru calculatorul tău de acas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FB1-8FD9-4F17-842B-B49BC6693D6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A866-8287-47C1-85B0-1FBD9FFBA55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52C2-39CB-4458-A8DB-5E5DEBF8E4B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3A67-6502-4E6F-B8B6-BC4C88C3E71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473-29BE-494C-A3D6-A7AA88ECF5E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5D5C-2375-452D-93BE-71012676D36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Dreptul exclusiv de a produce şi reproduce, de a reprezenta în public, sau de a publica o operă originală artistică sau literală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Aproape orice creat privat şi original, după ce este protejat, indiferent dacă are o înştiinţare sau nu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C062-61CC-40D3-B6CA-D11E3324AB7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Itemi care nu sunt protejaţi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ccff"/>
                </a:solidFill>
                <a:latin typeface="Verdana"/>
              </a:rPr>
              <a:t>Exemple de itemi care nu sunt protejaţi de legea copyrightulu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lucrări care nu au fost publicate sau înregist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ţie sau ilustraţ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lucrări constituite în intregime din informaţii comune (de ex: calendare standard, carte de telefoan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majoritatea materialelor guvernamentale (unii itemi creaţi de antreprenori pentru guvern pot fi protejaţ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A14A-CE65-497D-9704-AD31B7F15B2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uza folosirii lega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799bf3"/>
                </a:solidFill>
                <a:latin typeface="Verdana"/>
              </a:rPr>
              <a:t>Folosirea legală este o parte a legii copyrightului.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Permite oamenilor să folosească şi să copieze lucrări protejate dacă sunt folosite pentr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ritic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Ştir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Învăţămâ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Burse şcol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FAA8-772E-4824-AD1F-B1D93E2DEB3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 factori 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care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jut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la determinarea folosirii lega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1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Scopul şi caracterul folosirii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, inclusiv dacă folosirea este   de natură comercială î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poate fi folosit în scopuri educaţionale, nu doar intr-un   mediu ş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2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Natura lucră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folosirea legală se aplică mai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ul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lucrărilor creative în comparaţie cu cele bazate pe fapte din natur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3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Marimea parţii folosi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în raport cu lucrarea protejat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folosirea strictului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necesar, nu şi a “miezului” lucră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4.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Efectul folosirii asupra potenţialei pieţ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a lucrării proteja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copierea nu trebuie să afecteze piaţa lucrării proteja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culegeri de probl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79F3-1DA6-44FF-A7B3-4655A9DFDEC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5760" y="533160"/>
            <a:ext cx="823752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lvl="1" marL="2041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ul folosirii lega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Fair Use Guidelines for Educational Multimedia “ a fost creat pentru a oferi suport în privinţa folosirii leg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Cu toate acestea nu este un document legal, este doar o interpretare a legii, se aplică doar educatorilor care produc multi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FEBB-A944-4BEB-ABD7-2FFFD058382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 pentru studenţ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Studenţii şi educatorii au ghiduri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5e647"/>
                </a:solidFill>
                <a:latin typeface="Verdana"/>
              </a:rPr>
              <a:t>Studenţii pot: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încorpora porţiuni din lucrări protejate când îşi realizează propriile proiecte educaţionale multimedia pentru un anumit cu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prezenta  propriile proiecte la cursul pentru care au fost cre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reţine proiectele în propriile portofolii ca exemple ale muncii academice pentru scopuri personale ulterioare cum ar fi servicii sau interviuri şcol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68F9-8B65-430A-A37B-FCC23083264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 pentru educator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Educatorii po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ncorpora porţiuni din lucrări protejate când  realizează proiecte educaţionale multimedia care să vină în ajutorul predă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Reţine proiectele pe termen nedefinit în următoarele scopur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pentru a le prezenta colegilor săi ca exemeple la conferinţ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să le reţină în portofolii pentru uz personal cum ar fi promoţii sau  interviuri pentru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să folosească proiectele pentru predare pe o perioadă de până la 2 ani dupa prima folosire cu o clas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folosirea după această perioadă de timp necesită permisiunea pentru fiecare porţiune protejată încorporată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CAE-22D7-44F8-A1E8-DB9F43B7829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ffffff"/>
                </a:solidFill>
                <a:latin typeface="Verdana"/>
              </a:rPr>
              <a:t>Sfaturi pentru rămânera în permisiunea legală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5760" y="1371600"/>
          <a:ext cx="8237520" cy="454356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şi autor; nu mai mult de 5 poezii dintr-o singură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ă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ş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 Nu mai mult de  10% sau 15 imagini dintr-o singură publicaţ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â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6"/>
          <p:cNvSpPr/>
          <p:nvPr/>
        </p:nvSpPr>
        <p:spPr>
          <a:xfrm>
            <a:off x="152280" y="789120"/>
            <a:ext cx="81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Verdana"/>
              </a:rPr>
              <a:t>Din lucrarea protejată, puteţi folosiţi următoarele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ARDELEAN NORIN</cp:lastModifiedBy>
  <dcterms:modified xsi:type="dcterms:W3CDTF">2010-12-03T03:48:43Z</dcterms:modified>
  <cp:revision>319</cp:revision>
  <dc:subject/>
  <dc:title>Copyright Chaos</dc:title>
</cp:coreProperties>
</file>